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E5E1-2222-4A15-B7FA-AC30FB1CF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rk for Berkeley, telecommuting from NY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ISA - superclass/subclass, part of/superpart, develops-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com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just gives ya a blank one. Copy is the handy one here as often ya just wanna change one thing in the phenotype to get a new pheno - be it entity, value or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lected populates pheno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entity ontologies, fields to use, and everything else imaginable about the gui - need to be able to configure for different sites but not be hardwired to a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aid Phenote is in its early stages - so the wish list is a mile long… Compund entities - 2 kinds? Chris? Entity w qualifier - and doubl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qualifier a separate field or part of compound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s composite terms &amp; compound entities. Composite term is a term with a qualifier like a spatial qualifier - for instance dorsal fin - also called cross product or qualified term (not qualified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 entity is more than one entity to make up and entity - like head fused to arm. Head &amp; arm are 2 entities making up one entity. Brain fused with eye, sensitivity to red light -&gt; relational attrib + 2ndary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alifiers” is a fb catch all for a bunch of different ont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a good example for spatial qual? Anterior Notocho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is working on gui using their jambalaya tools - DAG &amp; tree views, Be able to filter views by relationship types - isa, part of, develops from. Also be able to filter on parents &amp; children, also limit the amount of levels especially for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G view is similar to Quick GO - quik go just does parents, no limit on levels, no relationship filters. DAG is directed acyclic graph - can have more than on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selection between all parts of the gui - table, fields, term info, &amp; dag guis… at least optionally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rm info lists parents &amp; children terms make them clickable to go to that term - this will go a long way for navigation needs actually and its only text based. Also descriptions sometimes have links in them - make those click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can really navigate 3 ways - term completion, term info selecting parent/kids, &amp; dag gu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n paths are trying to discern what the user might do in the future from what they’ve done in the past - theres 2 different ways that could be implemented - gui worn path and data worn path - for data just observe what attributes are used for what entities and put those attributes &amp;/or values up as suggestions for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ui - take note of how user navigates through ontologies and highlight the parts of the ontology the user has been to, as well as even allow user to filter to just those they’ve bee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y will be zf collaboration. Use phenote/oboedit stuff in backend servlet. Front end use combination of java server pages, java server faces, shale… java script/ajax, applet? Uvic stuff web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data in zfin database - might write straight into database - jdbc/hibernate - or might just write pheno-xml (cjm/cbio) and zfin would handle the xml - unclear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work seamlessly in zfin environment and yet be generic to use elsewhere - there should be configurations for zfin specific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jax collaboration with dicthy and phenote-lite with kevin at zf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ol group also interes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e is in its very early stages - what it aspires to be is much bigger than what it is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l illustrate the state of things, before going into what I then hope to add to i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 currently uses text editor - going to a java app from NLP folk.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very different environments to integrate with - zf is webby, fb is not. More work but good for long run I sup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for fb specific stuff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LP - Natural Language Processing - might scan papers for ontology items and even come up with phenotype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F and other groups may be interested in this as well - ideally make generic &amp; reus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tart is a way to install java applications from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webstart link at that url - theres also troubleshooting for webstart issues - should work from windows &amp; mac - linux &amp; solaris might require some futzing. Also java 1.5 is required so download if you don’t have it. For mac this means you need to be on Tiger (is that probl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put out releases every few weeks - up to 0.3? at the mo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s definitely alpha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forge coming soon - svn is the new hipper cvs (can track history of moved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on Obo sourceforge site - if cbio puts up a sourceforge site will migrate there (would be 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do 0.4 earlier if desired, 0.5 probably in early Jul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ed zf &amp; fb - very helpful to watch curators i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 gu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pheno instance its taxa + E + A/V. Phenote keeps a list of instances to update &amp; dele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picture of current phenote - ideally with term comp list &amp; term info &amp; a few instan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tem is some handle to what the EAV will get assoc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B id is specific to a mod/group. For zf this includes environment. For FB this may include genetic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imes called a lump id - as the id can lump a few things together as with zfin genotype +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only entity is Anatomy - GO &amp; CT co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for PATO attribute as the value implies the attribute - may use attribute for “worn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elds coming - later in tal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slide stolen from mo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or fields with ontologies - entity/anatomy &amp; pato - not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containment not start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list of term nams - should it put syns in brack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ing on jaw - returns terms with no jaw in them, but have jaw as synonym - as can be seen in term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confusing - should synonym be included parenthesized in the completion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 put in both “just obsoletes” &amp; “include obsole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13E69-E86B-48A3-9B72-DC93E8671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F3D21-827F-4C3B-AE25-99D576623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D036F-4DDB-4ED2-B757-AB1171F92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53290-9DD7-4717-978D-F8BB00F23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7B2AB-9FB9-45EE-B252-05543E330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D77CF-7768-42A8-93F7-7214184B5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DF14F-169F-42DB-B19C-4D4F8377B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63EEF-0376-4CDD-9DF9-286D62D1D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B07D7-0B16-4332-8D56-0E892D327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7CE42-D7FD-4036-8556-2403F2927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DC871-E966-4E06-9A3A-FC760344D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0C79B-C9DE-41B9-A468-3589DC333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5F74-A9D5-4C15-BCBC-3A94EBFB75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toy.lbl.gov:9010/phenote/phenote.html" TargetMode="External"/><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Gibson</a:t>
            </a:r>
            <a:endParaRPr b="0"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 Bioinformatics and Ontology Project (BBOP)</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for Biomedical Ontologies(NCBO)</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Berkeley National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Info</a:t>
            </a:r>
            <a:endParaRPr b="0" lang="en-US" sz="4400" spc="-1" strike="noStrike">
              <a:solidFill>
                <a:srgbClr val="000000"/>
              </a:solidFill>
              <a:latin typeface="Arial"/>
            </a:endParaRPr>
          </a:p>
        </p:txBody>
      </p:sp>
      <p:sp>
        <p:nvSpPr>
          <p:cNvPr id="110"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se over terms in completion list gives more info:</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nyms,Definition, Parent relationships, Child relationships, Whether obsole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terms are clickable</a:t>
            </a:r>
            <a:endParaRPr b="0" lang="en-US" sz="2400" spc="-1" strike="noStrike">
              <a:solidFill>
                <a:srgbClr val="000000"/>
              </a:solidFill>
              <a:latin typeface="Arial"/>
            </a:endParaRPr>
          </a:p>
        </p:txBody>
      </p:sp>
      <p:pic>
        <p:nvPicPr>
          <p:cNvPr id="111" name="" descr=""/>
          <p:cNvPicPr/>
          <p:nvPr/>
        </p:nvPicPr>
        <p:blipFill>
          <a:blip r:embed="rId1"/>
          <a:stretch/>
        </p:blipFill>
        <p:spPr>
          <a:xfrm>
            <a:off x="768240" y="4114800"/>
            <a:ext cx="76075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ype Character Table</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Phenotype Character inst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lete, Copy</a:t>
            </a:r>
            <a:endParaRPr b="0" lang="en-US" sz="2400" spc="-1" strike="noStrike">
              <a:solidFill>
                <a:srgbClr val="000000"/>
              </a:solidFill>
              <a:latin typeface="Arial"/>
            </a:endParaRPr>
          </a:p>
        </p:txBody>
      </p:sp>
      <p:pic>
        <p:nvPicPr>
          <p:cNvPr id="114" name="" descr=""/>
          <p:cNvPicPr/>
          <p:nvPr/>
        </p:nvPicPr>
        <p:blipFill>
          <a:blip r:embed="rId1"/>
          <a:stretch/>
        </p:blipFill>
        <p:spPr>
          <a:xfrm>
            <a:off x="1708200" y="4114800"/>
            <a:ext cx="572760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additions</a:t>
            </a: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interf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Fly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context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 info navi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 xml write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Phenote aspires to…</a:t>
            </a: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ntities: GO, Cell Type…</a:t>
            </a:r>
            <a:endParaRPr b="0" lang="en-US" sz="28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chooser</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oordinated Term(cross product)</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Quality &amp; Secondary Entity </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haracter Fields:</a:t>
            </a:r>
            <a:endParaRPr b="0" lang="en-US" sz="2800" spc="-1" strike="noStrike">
              <a:solidFill>
                <a:srgbClr val="000000"/>
              </a:solidFill>
              <a:latin typeface="Arial"/>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Pub ID, Figure ID, Quantity/Units, other “Qualifiers”?</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s/Modifiers: radio buttons</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Configuration </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info: add, back &amp; for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 for Ontology Browsing</a:t>
            </a:r>
            <a:endParaRPr b="0" lang="en-US" sz="4400" spc="-1" strike="noStrike">
              <a:solidFill>
                <a:srgbClr val="000000"/>
              </a:solidFill>
              <a:latin typeface="Arial"/>
            </a:endParaRPr>
          </a:p>
        </p:txBody>
      </p:sp>
      <p:sp>
        <p:nvSpPr>
          <p:cNvPr id="1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ic’s Jambalay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kids, level limits</a:t>
            </a:r>
            <a:endParaRPr b="0" lang="en-US" sz="2800" spc="-1" strike="noStrike">
              <a:solidFill>
                <a:srgbClr val="000000"/>
              </a:solidFill>
              <a:latin typeface="Arial"/>
            </a:endParaRPr>
          </a:p>
        </p:txBody>
      </p:sp>
      <p:pic>
        <p:nvPicPr>
          <p:cNvPr id="122" name="" descr=""/>
          <p:cNvPicPr/>
          <p:nvPr/>
        </p:nvPicPr>
        <p:blipFill>
          <a:blip r:embed="rId1"/>
          <a:stretch/>
        </p:blipFill>
        <p:spPr>
          <a:xfrm>
            <a:off x="4648320" y="1981080"/>
            <a:ext cx="3809880" cy="35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spirations…</a:t>
            </a:r>
            <a:endParaRPr b="0" lang="en-US" sz="4400" spc="-1" strike="noStrike">
              <a:solidFill>
                <a:srgbClr val="000000"/>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 XML rea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orn path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integration</a:t>
            </a:r>
            <a:endParaRPr b="0" lang="en-US" sz="4400" spc="-1" strike="noStrike">
              <a:solidFill>
                <a:srgbClr val="000000"/>
              </a:solidFill>
              <a:latin typeface="Arial"/>
            </a:endParaRPr>
          </a:p>
        </p:txBody>
      </p:sp>
      <p:pic>
        <p:nvPicPr>
          <p:cNvPr id="126" name="" descr=""/>
          <p:cNvPicPr/>
          <p:nvPr/>
        </p:nvPicPr>
        <p:blipFill>
          <a:blip r:embed="rId1"/>
          <a:stretch/>
        </p:blipFill>
        <p:spPr>
          <a:xfrm>
            <a:off x="2286000" y="1828800"/>
            <a:ext cx="456408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aspirations</a:t>
            </a:r>
            <a:endParaRPr b="0" lang="en-US" sz="4400" spc="-1" strike="noStrike">
              <a:solidFill>
                <a:srgbClr val="00000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web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AJAX interface collab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FIN data adap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 evolutionists (cT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Requirements</a:t>
            </a:r>
            <a:endParaRPr b="0" lang="en-US" sz="4400" spc="-1" strike="noStrike">
              <a:solidFill>
                <a:srgbClr val="0000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itate Phenote or FX? K-Pla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lades -&gt; Java migr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lk edit: FX vs bulk copy/edi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jax) or full web app?</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 Maker? Character t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web page or same pag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composed? Relational qua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does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aspires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yBase aspirations</a:t>
            </a:r>
            <a:endParaRPr b="0" lang="en-US" sz="4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that talks to FB app profor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otype m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 integ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LP - infer phenotypes from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mp to OBD (zf &amp; fb) via pheno-x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a:t>
            </a:r>
            <a:endParaRPr b="0" lang="en-US" sz="4400" spc="-1" strike="noStrike">
              <a:solidFill>
                <a:srgbClr val="000000"/>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tart (0.6): </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toy.lbl.gov:9010/phenote/phenote.html</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cent Webby Phenot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reaper.lbl.gov/phenote/html/ncbo.htm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forge OBO</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ourceforge.net/projects/obo</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version for phenote sub pro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7 release ~August/September (we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8"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OP:</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zanna Lewis, Chris Mungall, Sima Misra, Nicole Washington, ShengQiang Shu, Seth John Day-Richter, Nomi Harris</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FIN:</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Westerfield, Melissa Haendel, Erik Segerdell, Sierra Taylor, Judy Sprague,Leyla Bayraktaroglu…</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Base:</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hel Drysdale, Gillian Milburn, Michael Ashburner, George Gkoutos, David Sutherland…</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Victoria:</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 Callendar, Margaret-Anne Storey, Sean Falc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henot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for annotating Phenotype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reads about a phenotype in the literature related to taxonomy or genotype</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genotype(or taxonom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genetic context (optional)</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Entity (e.g. Anatom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PATO attribute/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pic>
        <p:nvPicPr>
          <p:cNvPr id="55" name="" descr=""/>
          <p:cNvPicPr/>
          <p:nvPr/>
        </p:nvPicPr>
        <p:blipFill>
          <a:blip r:embed="rId1"/>
          <a:stretch/>
        </p:blipFill>
        <p:spPr>
          <a:xfrm>
            <a:off x="685800" y="2108160"/>
            <a:ext cx="7772400" cy="385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henotype Character in Phenot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B ID/genotype/tax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Con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tomy Term (Ent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O value</a:t>
            </a:r>
            <a:endParaRPr b="0" lang="en-US" sz="2800" spc="-1" strike="noStrike">
              <a:solidFill>
                <a:srgbClr val="000000"/>
              </a:solidFill>
              <a:latin typeface="Arial"/>
            </a:endParaRPr>
          </a:p>
        </p:txBody>
      </p:sp>
      <p:pic>
        <p:nvPicPr>
          <p:cNvPr id="58" name="" descr=""/>
          <p:cNvPicPr/>
          <p:nvPr/>
        </p:nvPicPr>
        <p:blipFill>
          <a:blip r:embed="rId1"/>
          <a:stretch/>
        </p:blipFill>
        <p:spPr>
          <a:xfrm>
            <a:off x="685800" y="4127400"/>
            <a:ext cx="7772400" cy="19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516400" y="14968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ye</a:t>
            </a:r>
            <a:endParaRPr b="0" lang="en-US" sz="2400" spc="-1" strike="noStrike">
              <a:solidFill>
                <a:srgbClr val="000000"/>
              </a:solidFill>
              <a:latin typeface="Arial"/>
            </a:endParaRPr>
          </a:p>
        </p:txBody>
      </p:sp>
      <p:sp>
        <p:nvSpPr>
          <p:cNvPr id="60" name=""/>
          <p:cNvSpPr/>
          <p:nvPr/>
        </p:nvSpPr>
        <p:spPr>
          <a:xfrm>
            <a:off x="4231080" y="149688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ment</a:t>
            </a:r>
            <a:endParaRPr b="0" lang="en-US" sz="2400" spc="-1" strike="noStrike">
              <a:solidFill>
                <a:srgbClr val="000000"/>
              </a:solidFill>
              <a:latin typeface="Arial"/>
            </a:endParaRPr>
          </a:p>
        </p:txBody>
      </p:sp>
      <p:sp>
        <p:nvSpPr>
          <p:cNvPr id="61" name=""/>
          <p:cNvSpPr/>
          <p:nvPr/>
        </p:nvSpPr>
        <p:spPr>
          <a:xfrm>
            <a:off x="6604200" y="149688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eloric</a:t>
            </a:r>
            <a:endParaRPr b="0" lang="en-US" sz="2400" spc="-1" strike="noStrike">
              <a:solidFill>
                <a:srgbClr val="000000"/>
              </a:solidFill>
              <a:latin typeface="Arial"/>
            </a:endParaRPr>
          </a:p>
        </p:txBody>
      </p:sp>
      <p:sp>
        <p:nvSpPr>
          <p:cNvPr id="62" name=""/>
          <p:cNvSpPr/>
          <p:nvPr/>
        </p:nvSpPr>
        <p:spPr>
          <a:xfrm>
            <a:off x="2590920" y="1523880"/>
            <a:ext cx="6019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6172200" y="2446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8242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5" name=""/>
          <p:cNvSpPr/>
          <p:nvPr/>
        </p:nvSpPr>
        <p:spPr>
          <a:xfrm>
            <a:off x="62560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6"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67" name=""/>
          <p:cNvSpPr/>
          <p:nvPr/>
        </p:nvSpPr>
        <p:spPr>
          <a:xfrm>
            <a:off x="660456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68" name=""/>
          <p:cNvSpPr/>
          <p:nvPr/>
        </p:nvSpPr>
        <p:spPr>
          <a:xfrm>
            <a:off x="423000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69" name=""/>
          <p:cNvSpPr/>
          <p:nvPr/>
        </p:nvSpPr>
        <p:spPr>
          <a:xfrm>
            <a:off x="383040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0" name=""/>
          <p:cNvSpPr/>
          <p:nvPr/>
        </p:nvSpPr>
        <p:spPr>
          <a:xfrm>
            <a:off x="62323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16400" y="198108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face</a:t>
            </a:r>
            <a:endParaRPr b="0" lang="en-US" sz="2400" spc="-1" strike="noStrike">
              <a:solidFill>
                <a:srgbClr val="000000"/>
              </a:solidFill>
              <a:latin typeface="Arial"/>
            </a:endParaRPr>
          </a:p>
        </p:txBody>
      </p:sp>
      <p:sp>
        <p:nvSpPr>
          <p:cNvPr id="73" name=""/>
          <p:cNvSpPr/>
          <p:nvPr/>
        </p:nvSpPr>
        <p:spPr>
          <a:xfrm>
            <a:off x="4231080" y="198108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t>
            </a:r>
            <a:endParaRPr b="0" lang="en-US" sz="2400" spc="-1" strike="noStrike">
              <a:solidFill>
                <a:srgbClr val="000000"/>
              </a:solidFill>
              <a:latin typeface="Arial"/>
            </a:endParaRPr>
          </a:p>
        </p:txBody>
      </p:sp>
      <p:sp>
        <p:nvSpPr>
          <p:cNvPr id="74" name=""/>
          <p:cNvSpPr/>
          <p:nvPr/>
        </p:nvSpPr>
        <p:spPr>
          <a:xfrm>
            <a:off x="6604560" y="1981080"/>
            <a:ext cx="18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plastic</a:t>
            </a:r>
            <a:endParaRPr b="0" lang="en-US" sz="2400" spc="-1" strike="noStrike">
              <a:solidFill>
                <a:srgbClr val="000000"/>
              </a:solidFill>
              <a:latin typeface="Arial"/>
            </a:endParaRPr>
          </a:p>
        </p:txBody>
      </p:sp>
      <p:sp>
        <p:nvSpPr>
          <p:cNvPr id="75" name=""/>
          <p:cNvSpPr/>
          <p:nvPr/>
        </p:nvSpPr>
        <p:spPr>
          <a:xfrm>
            <a:off x="2438280" y="19810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3822480" y="19810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7" name=""/>
          <p:cNvSpPr/>
          <p:nvPr/>
        </p:nvSpPr>
        <p:spPr>
          <a:xfrm>
            <a:off x="6256080" y="19699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
          <p:cNvSpPr/>
          <p:nvPr/>
        </p:nvSpPr>
        <p:spPr>
          <a:xfrm>
            <a:off x="2516400" y="2438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a:t>
            </a:r>
            <a:endParaRPr b="0" lang="en-US" sz="2400" spc="-1" strike="noStrike">
              <a:solidFill>
                <a:srgbClr val="000000"/>
              </a:solidFill>
              <a:latin typeface="Arial"/>
            </a:endParaRPr>
          </a:p>
        </p:txBody>
      </p:sp>
      <p:sp>
        <p:nvSpPr>
          <p:cNvPr id="79" name=""/>
          <p:cNvSpPr/>
          <p:nvPr/>
        </p:nvSpPr>
        <p:spPr>
          <a:xfrm>
            <a:off x="4231080" y="2438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a:t>
            </a:r>
            <a:endParaRPr b="0" lang="en-US" sz="2400" spc="-1" strike="noStrike">
              <a:solidFill>
                <a:srgbClr val="000000"/>
              </a:solidFill>
              <a:latin typeface="Arial"/>
            </a:endParaRPr>
          </a:p>
        </p:txBody>
      </p:sp>
      <p:sp>
        <p:nvSpPr>
          <p:cNvPr id="80" name=""/>
          <p:cNvSpPr/>
          <p:nvPr/>
        </p:nvSpPr>
        <p:spPr>
          <a:xfrm>
            <a:off x="6604560" y="24382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rophied</a:t>
            </a:r>
            <a:endParaRPr b="0" lang="en-US" sz="2400" spc="-1" strike="noStrike">
              <a:solidFill>
                <a:srgbClr val="000000"/>
              </a:solidFill>
              <a:latin typeface="Arial"/>
            </a:endParaRPr>
          </a:p>
        </p:txBody>
      </p:sp>
      <p:sp>
        <p:nvSpPr>
          <p:cNvPr id="81" name=""/>
          <p:cNvSpPr/>
          <p:nvPr/>
        </p:nvSpPr>
        <p:spPr>
          <a:xfrm>
            <a:off x="2436840" y="24382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825720" y="2438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
          <p:cNvSpPr/>
          <p:nvPr/>
        </p:nvSpPr>
        <p:spPr>
          <a:xfrm>
            <a:off x="6323040" y="243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6257880" y="2403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5"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6" name=""/>
          <p:cNvSpPr/>
          <p:nvPr/>
        </p:nvSpPr>
        <p:spPr>
          <a:xfrm>
            <a:off x="980280" y="14968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980280" y="19810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8" name=""/>
          <p:cNvSpPr/>
          <p:nvPr/>
        </p:nvSpPr>
        <p:spPr>
          <a:xfrm>
            <a:off x="980280" y="24382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 descr=""/>
          <p:cNvPicPr/>
          <p:nvPr/>
        </p:nvPicPr>
        <p:blipFill>
          <a:blip r:embed="rId1"/>
          <a:stretch/>
        </p:blipFill>
        <p:spPr>
          <a:xfrm>
            <a:off x="3581280" y="3327480"/>
            <a:ext cx="2438640" cy="2388960"/>
          </a:xfrm>
          <a:prstGeom prst="rect">
            <a:avLst/>
          </a:prstGeom>
          <a:ln w="0">
            <a:noFill/>
          </a:ln>
        </p:spPr>
      </p:pic>
      <p:sp>
        <p:nvSpPr>
          <p:cNvPr id="90" name=""/>
          <p:cNvSpPr/>
          <p:nvPr/>
        </p:nvSpPr>
        <p:spPr>
          <a:xfrm>
            <a:off x="3200400" y="5791320"/>
            <a:ext cx="3200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hh</a:t>
            </a:r>
            <a:r>
              <a:rPr b="1" i="1" lang="en-US" sz="2400" spc="-1" strike="noStrike" baseline="30000">
                <a:solidFill>
                  <a:srgbClr val="000000"/>
                </a:solidFill>
                <a:latin typeface="Arial"/>
              </a:rPr>
              <a:t>-/-</a:t>
            </a:r>
            <a:r>
              <a:rPr b="1" i="1" lang="en-US" sz="2400" spc="-1" strike="noStrike">
                <a:solidFill>
                  <a:srgbClr val="000000"/>
                </a:solidFill>
                <a:latin typeface="Arial"/>
              </a:rPr>
              <a:t> </a:t>
            </a:r>
            <a:r>
              <a:rPr b="1" i="1" lang="en-US" sz="2000" spc="-1" strike="noStrike">
                <a:solidFill>
                  <a:srgbClr val="000000"/>
                </a:solidFill>
                <a:latin typeface="Arial"/>
              </a:rPr>
              <a:t>(holoprosencephaly)</a:t>
            </a:r>
            <a:endParaRPr b="0" lang="en-US" sz="2000" spc="-1" strike="noStrike">
              <a:solidFill>
                <a:srgbClr val="000000"/>
              </a:solidFill>
              <a:latin typeface="Arial"/>
            </a:endParaRPr>
          </a:p>
        </p:txBody>
      </p:sp>
      <p:sp>
        <p:nvSpPr>
          <p:cNvPr id="91"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93" name=""/>
          <p:cNvSpPr/>
          <p:nvPr/>
        </p:nvSpPr>
        <p:spPr>
          <a:xfrm>
            <a:off x="727128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94" name=""/>
          <p:cNvSpPr/>
          <p:nvPr/>
        </p:nvSpPr>
        <p:spPr>
          <a:xfrm>
            <a:off x="489672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95" name=""/>
          <p:cNvSpPr/>
          <p:nvPr/>
        </p:nvSpPr>
        <p:spPr>
          <a:xfrm>
            <a:off x="44971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689904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
          <p:cNvSpPr/>
          <p:nvPr/>
        </p:nvSpPr>
        <p:spPr>
          <a:xfrm>
            <a:off x="426708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16440" y="2100240"/>
            <a:ext cx="3719520" cy="378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tomic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amp; tissue ontology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logical proces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lecular func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ular compon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5180760" y="3168720"/>
            <a:ext cx="348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PA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nd trait ontology)</a:t>
            </a:r>
            <a:endParaRPr b="0" lang="en-US" sz="1800" spc="-1" strike="noStrike">
              <a:solidFill>
                <a:srgbClr val="000000"/>
              </a:solidFill>
              <a:latin typeface="Arial"/>
            </a:endParaRPr>
          </a:p>
        </p:txBody>
      </p:sp>
      <p:sp>
        <p:nvSpPr>
          <p:cNvPr id="102"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Completion</a:t>
            </a:r>
            <a:endParaRPr b="0" lang="en-US" sz="4400" spc="-1" strike="noStrike">
              <a:solidFill>
                <a:srgbClr val="000000"/>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terms displayed as you type</a:t>
            </a:r>
            <a:endParaRPr b="0" lang="en-US" sz="2800" spc="-1" strike="noStrike">
              <a:solidFill>
                <a:srgbClr val="000000"/>
              </a:solidFill>
              <a:latin typeface="Arial"/>
            </a:endParaRPr>
          </a:p>
        </p:txBody>
      </p:sp>
      <p:pic>
        <p:nvPicPr>
          <p:cNvPr id="105" name="" descr=""/>
          <p:cNvPicPr/>
          <p:nvPr/>
        </p:nvPicPr>
        <p:blipFill>
          <a:blip r:embed="rId1"/>
          <a:stretch/>
        </p:blipFill>
        <p:spPr>
          <a:xfrm>
            <a:off x="4648320" y="2895480"/>
            <a:ext cx="42670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tion Search</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arch 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Synonym, Definition, Obsolete</a:t>
            </a:r>
            <a:endParaRPr b="0" lang="en-US" sz="2400" spc="-1" strike="noStrike">
              <a:solidFill>
                <a:srgbClr val="000000"/>
              </a:solidFill>
              <a:latin typeface="Arial"/>
            </a:endParaRPr>
          </a:p>
        </p:txBody>
      </p:sp>
      <p:pic>
        <p:nvPicPr>
          <p:cNvPr id="108" name="" descr=""/>
          <p:cNvPicPr/>
          <p:nvPr/>
        </p:nvPicPr>
        <p:blipFill>
          <a:blip r:embed="rId1"/>
          <a:stretch/>
        </p:blipFill>
        <p:spPr>
          <a:xfrm>
            <a:off x="685800" y="4206960"/>
            <a:ext cx="7772400" cy="17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9:53:44Z</dcterms:created>
  <dc:creator>Mark Gibson</dc:creator>
  <dc:description/>
  <dc:language>en-US</dc:language>
  <cp:lastModifiedBy>Mark Gibson</cp:lastModifiedBy>
  <dcterms:modified xsi:type="dcterms:W3CDTF">2006-07-31T20:48:25Z</dcterms:modified>
  <cp:revision>132</cp:revision>
  <dc:subject/>
  <dc:title>Phenote</dc:title>
</cp:coreProperties>
</file>